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959-FFE6-41AD-B054-2B75A048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B4F-4726-4AC1-8BEB-6804F079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2DC-2CAD-47FB-BF55-3599C401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F7A-4216-4EA7-8609-676C12F2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F180-E215-438D-B6CB-3A19C7B8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1A80-171F-4A06-8DEB-9334D25B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ADD7-3F1A-4B22-9A41-8EDFE28E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C274-306F-4BFB-AE77-736FF7CB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8E08-64B7-4BE4-8979-8D1080F6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0FE5-DE80-4F1B-9D68-66893DC8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2E0F-BA3F-41A2-89B7-0035867E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592-E753-41C7-B27D-C4CB4B28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350D-6F06-48AC-B861-EB3AA429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C54B-6BE0-4A0C-80EB-9DE684E2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7E0C-DABE-4BA9-9E48-B7F72B5B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C1FB-E506-4360-9ECF-7CA2AD76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7C08-DEAE-4716-9F86-D281F0BE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99F-F83B-44DC-AE10-59FF1328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19A8-EEB5-4B7E-88B2-BB2210C7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F68-3241-4651-B222-4D1BF747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B7B8-74A6-4AB5-8417-E5B4770D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F57-E734-416F-A9E8-8A9C1312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9FA-78FC-4C8E-B78C-2EED278E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1470-6364-4AE9-9E0D-A6674044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61CA-068F-47B8-9D09-213906DB0EA6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58C6-7B97-4F7F-8391-C147D4CC4EC3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ea Level Forecasting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possibility of hazards because of rising oceans produced by climate change are not limited,  but of course, to small tropical island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uman produced climate change can lead to sea level rise by the heating of ocean surfaces,causing the water to expand (thermal expansion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6:11:32Z</dcterms:created>
  <dc:creator>PA Department of Education</dc:creator>
  <dc:description/>
  <dc:language>en-US</dc:language>
  <cp:lastModifiedBy>PA Department of Education</cp:lastModifiedBy>
  <dcterms:modified xsi:type="dcterms:W3CDTF">2009-05-27T16:29:37Z</dcterms:modified>
  <cp:revision>2</cp:revision>
  <dc:subject/>
  <dc:title>Sea Level Forecasting</dc:title>
</cp:coreProperties>
</file>